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39.pct" ContentType="image/x-pict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29.jpeg" ContentType="image/jpeg"/>
  <Override PartName="/ppt/media/image8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0.pct" ContentType="image/x-pict"/>
  <Override PartName="/ppt/media/image33.png" ContentType="image/png"/>
  <Override PartName="/ppt/media/image31.pct" ContentType="image/x-pict"/>
  <Override PartName="/ppt/media/image34.png" ContentType="image/png"/>
  <Override PartName="/ppt/media/image12.jpeg" ContentType="image/jpeg"/>
  <Override PartName="/ppt/media/image32.pct" ContentType="image/x-pict"/>
  <Override PartName="/ppt/media/image40.pct" ContentType="image/x-pict"/>
  <Override PartName="/ppt/media/image37.jpeg" ContentType="image/jpeg"/>
  <Override PartName="/ppt/media/image3.jpeg" ContentType="image/jpeg"/>
  <Override PartName="/ppt/media/image24.jpeg" ContentType="image/jpeg"/>
  <Override PartName="/ppt/media/image4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CB47-6D82-4C63-A763-64CC5515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E712-1E37-487B-8E70-8B2F35D1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0C5-154C-4053-8610-E8C22B12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1EF8-1EDF-4DA5-80BC-F07CEF09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4EB9-FC25-435C-82F0-BFAD1B23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1834-2F69-454E-AD94-468382B7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7550-225D-4676-96C8-61393974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D8B6-E9F9-4E97-89E8-87817055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2363-ADDF-4563-B544-C9DFD1A7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6898-B5DD-4CC3-B3B9-D5BF056D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8EDD-0DC7-4D89-B6FC-34BC4B3F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B2A-37BE-44E9-AEF8-C7D89C81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06E0-CD3F-4F74-8E10-5C572091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E4A2-2951-4335-A343-2AE63D1F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DA99-4965-4148-99E4-06C90685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071C-DB9E-4A28-B70B-F923F17A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1D76-95DA-4598-B9C3-AECF97DC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011EF-4FEB-4EEB-BC71-A33D5747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1A6D4-F486-4E87-810C-85066BFD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B1B8C-5AC2-4FA6-8DE2-FF18E420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E273E-BD06-448A-97BD-5CE9CF31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99101-9798-4A75-AD2F-7FCF9A71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154-1328-427D-8CCE-3ADF5056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EF2B3-C20F-4C54-9CEE-F2D398DD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E1047-7CE4-4FCD-8535-61459FEE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56A8A-E403-4878-AFC5-B716C1B8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A5BA4-48D0-4314-B176-F653BD1C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CA4DF-3040-43E0-B9C2-3F291600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70E44-233D-402D-B500-D7D4473B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CAB83-1C0D-42C2-826B-D4B0D566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6FBDB-3F3A-47D7-8693-44190E57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1BCC6-176B-4C5D-9988-21E2AEA7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8880D-9560-4E2C-92B7-DE1285F7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B813-2578-4286-8FE3-06933848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3C62A-895C-475A-81D2-18F0651C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C97A7-72AF-4658-9C2F-D94284D3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D393F-F64D-41E3-86AF-086BE641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0A7CB-0FEF-4AA5-9819-D0C1332E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B38D3-7B7D-45C5-BE44-FE590DD6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47D53-2E3F-4533-B910-6820ED8D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8441E-84F9-49D0-BCBD-835E9BEE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13FC4-4907-410E-BE6C-E42DAFFA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3D21F-BB70-4875-9210-A7D18A26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C321D-66B1-4F77-BB34-A000978D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D6E-8B4A-4B93-B79A-0B5BEB38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7871F-9F0F-4AAD-BA44-CBF200EB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54F60-3B28-4DD6-A606-68345BF2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075CF-0718-4547-8066-1BCB1725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085C1-C646-48A4-A3DE-DF446100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6B940-3E2E-4924-8711-7C276823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0E48F-C73A-4C74-8E25-DD705CF3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5FB51-C3C7-4969-9E7A-50A87A7F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34E1C-E962-462A-9A0E-9208E27E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C0A7C-F9AD-4B16-B80F-C8668E0A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3E022-2C02-4068-AC2C-798507DC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4836-5042-4788-ABE1-40043B3E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B7992-C357-4C1C-9D85-383FC910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E91FD-C85E-4A3C-9B0B-FF2144E4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0CF7F-9F82-48C4-B2D3-A1A44B5C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FC3D0-E2B0-4D04-9852-71E2521C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181F3-6A40-449F-A8DB-A177A10F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20589-6E12-40DC-8A6B-51BFF25C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044EB-6F7C-4954-9BBF-AA038298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34200-AA9A-43B6-92AA-265BA92E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81704-954C-4D83-B401-0D210ACE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578A0-5FE3-46F7-BC90-11543ED6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A1E4-7E40-4EDF-B142-700E7F44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2C55C-2D44-492C-B575-2A10969D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B4FCA-C67B-4CE8-B0E1-CFF352AA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D4EE5-DF75-4C7A-8F57-B428CDA7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2BE4D-D54B-44BA-84E1-1F8CEBFD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87CFB-9827-4A49-AC6B-5F63A834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7587F-80D1-4239-B4B0-7CBD0349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8E5EF-7911-4D19-B448-760156DA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ADAB4-E645-4FA0-A919-C02B2BE2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37348-1DDF-4C8B-B50F-50CC1D4C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406B0-0144-4A99-A6FF-1E9995C2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09C-B982-4D6E-AC1C-9183751B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EEB13-E731-4790-9AAE-21A6F5BB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6013F-37BF-48BB-990E-9BF009A6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61575-2D4C-4368-8070-F9D53D34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209EE-53CF-40C6-8890-C8AE11A1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5535E-1894-4816-9DB2-BD5356D6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BDB-7F32-45FC-A36A-4A29F845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9791-F15E-4207-9B5B-F63AB3A0C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55196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8CE7-62D5-4EA4-8A85-DA020CC29CB4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91A5-4977-4897-8B8A-67D9C0BB6579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EF73-BA50-46CA-9456-002B8C8F9B54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07FF-CD0D-4DF8-9BAD-BDA4D8EFB1D8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03B1-EBA0-44F1-BA42-0372322DAD26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C786-FCFD-4C60-A210-A9DF73B5A42D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ct"/><Relationship Id="rId2" Type="http://schemas.openxmlformats.org/officeDocument/2006/relationships/image" Target="../media/image40.pct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solution"/>
          <p:cNvPicPr/>
          <p:nvPr/>
        </p:nvPicPr>
        <p:blipFill>
          <a:blip r:embed="rId2"/>
          <a:stretch/>
        </p:blipFill>
        <p:spPr>
          <a:xfrm>
            <a:off x="2286000" y="0"/>
            <a:ext cx="494676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WordArt 5"/>
          <p:cNvSpPr txBox="1"/>
          <p:nvPr/>
        </p:nvSpPr>
        <p:spPr>
          <a:xfrm>
            <a:off x="0" y="4800600"/>
            <a:ext cx="424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SOLU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86" name="AutoShape 7">
            <a:hlinkClick r:id="rId5" action="ppaction://hlinksldjump"/>
          </p:cNvPr>
          <p:cNvSpPr/>
          <p:nvPr/>
        </p:nvSpPr>
        <p:spPr>
          <a:xfrm>
            <a:off x="85345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WordArt 4"/>
          <p:cNvSpPr txBox="1"/>
          <p:nvPr/>
        </p:nvSpPr>
        <p:spPr>
          <a:xfrm>
            <a:off x="762120" y="380880"/>
            <a:ext cx="75531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ven after all that, there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omes a point where no more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olute will dissolve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68" name="WordArt 5"/>
          <p:cNvSpPr txBox="1"/>
          <p:nvPr/>
        </p:nvSpPr>
        <p:spPr>
          <a:xfrm>
            <a:off x="304920" y="2743200"/>
            <a:ext cx="8458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Solution equilibrium- no more solut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will dissol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69" name="WordArt 6"/>
          <p:cNvSpPr txBox="1"/>
          <p:nvPr/>
        </p:nvSpPr>
        <p:spPr>
          <a:xfrm>
            <a:off x="838080" y="4419720"/>
            <a:ext cx="7239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issolving and recrystallizing are 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ppening at the same rate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4"/>
          <p:cNvSpPr txBox="1"/>
          <p:nvPr/>
        </p:nvSpPr>
        <p:spPr>
          <a:xfrm>
            <a:off x="457200" y="457200"/>
            <a:ext cx="76294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Saturated solution- solution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t equilibrium, no more solute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an be added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71" name="WordArt 5"/>
          <p:cNvSpPr txBox="1"/>
          <p:nvPr/>
        </p:nvSpPr>
        <p:spPr>
          <a:xfrm>
            <a:off x="533520" y="2666880"/>
            <a:ext cx="7696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nsaturated solution- can still 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old more solute, not at equil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72" name="WordArt 6"/>
          <p:cNvSpPr txBox="1"/>
          <p:nvPr/>
        </p:nvSpPr>
        <p:spPr>
          <a:xfrm>
            <a:off x="838080" y="4267080"/>
            <a:ext cx="78012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Supersaturated solution- holds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ore than the normal amount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of solute, only happens under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harsh conditions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4"/>
          <p:cNvSpPr/>
          <p:nvPr/>
        </p:nvSpPr>
        <p:spPr>
          <a:xfrm>
            <a:off x="2743200" y="2590920"/>
            <a:ext cx="3429000" cy="3886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2743200" y="4191120"/>
            <a:ext cx="3429000" cy="228600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200400" y="48769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7"/>
          <p:cNvSpPr/>
          <p:nvPr/>
        </p:nvSpPr>
        <p:spPr>
          <a:xfrm>
            <a:off x="3657600" y="54100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8"/>
          <p:cNvSpPr/>
          <p:nvPr/>
        </p:nvSpPr>
        <p:spPr>
          <a:xfrm>
            <a:off x="2895480" y="54864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9"/>
          <p:cNvSpPr/>
          <p:nvPr/>
        </p:nvSpPr>
        <p:spPr>
          <a:xfrm>
            <a:off x="4419720" y="510552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0"/>
          <p:cNvSpPr/>
          <p:nvPr/>
        </p:nvSpPr>
        <p:spPr>
          <a:xfrm>
            <a:off x="5410080" y="502920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1"/>
          <p:cNvSpPr/>
          <p:nvPr/>
        </p:nvSpPr>
        <p:spPr>
          <a:xfrm>
            <a:off x="3809880" y="49528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2"/>
          <p:cNvSpPr/>
          <p:nvPr/>
        </p:nvSpPr>
        <p:spPr>
          <a:xfrm>
            <a:off x="4876920" y="54100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13"/>
          <p:cNvSpPr/>
          <p:nvPr/>
        </p:nvSpPr>
        <p:spPr>
          <a:xfrm>
            <a:off x="5715000" y="541008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WordArt 14"/>
          <p:cNvSpPr txBox="1"/>
          <p:nvPr/>
        </p:nvSpPr>
        <p:spPr>
          <a:xfrm>
            <a:off x="380880" y="304920"/>
            <a:ext cx="8458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s the solution cools, it becomes harder to hold together.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4" name="WordArt 15"/>
          <p:cNvSpPr txBox="1"/>
          <p:nvPr/>
        </p:nvSpPr>
        <p:spPr>
          <a:xfrm>
            <a:off x="0" y="0"/>
            <a:ext cx="8801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dding one crystal causes the extra to fall 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ut of solution like rain.  This is called "seeding."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5" name="Oval 16"/>
          <p:cNvSpPr/>
          <p:nvPr/>
        </p:nvSpPr>
        <p:spPr>
          <a:xfrm>
            <a:off x="6324480" y="1905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6.14887E-007 C -0.03229 -0.01433 -0.06614 -0.00462 -0.09791 0.00601 C -0.10225 0.00994 -0.10677 0.01387 -0.11111 0.0178 C -0.11562 0.02173 -0.12205 0.02035 -0.12673 0.02381 C -0.13142 0.02728 -0.1401 0.0356 -0.1401 0.0356 C -0.15034 0.05641 -0.14444 0.04947 -0.15555 0.05918 C -0.15712 0.06219 -0.15816 0.06565 -0.16007 0.0682 C -0.16198 0.07074 -0.16493 0.07143 -0.16666 0.07398 C -0.17014 0.07929 -0.17187 0.08669 -0.17569 0.09178 C -0.17795 0.09478 -0.18003 0.09755 -0.18229 0.10056 C -0.18628 0.11628 -0.18316 0.10703 -0.1934 0.12737 C -0.19618 0.13292 -0.19722 0.13939 -0.2 0.14494 C -0.20764 0.18586 -0.22048 0.22469 -0.22673 0.2663 C -0.22743 0.29797 -0.22899 0.32941 -0.22899 0.36108 C -0.22899 0.36616 -0.22777 0.37102 -0.22673 0.37587 C -0.22552 0.38188 -0.22222 0.39367 -0.22222 0.39367 C -0.22465 0.40338 -0.22673 0.40245 -0.22222 0.40245 E">
                                      <p:cBhvr>
                                        <p:cTn id="245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222 0.40245 C -0.23437 0.4503 -0.22674 0.50093 -0.22222 0.5504 C -0.21858 0.59085 -0.22274 0.5682 -0.21771 0.58877 C -0.21632 0.59478 -0.21337 0.60657 -0.21337 0.60657 E">
                                      <p:cBhvr>
                                        <p:cTn id="274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62275E-006 L -0.00417 0.17198 E">
                                      <p:cBhvr>
                                        <p:cTn id="276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86963E-006 L 5.55112E-017 0.07767 E">
                                      <p:cBhvr>
                                        <p:cTn id="278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33148E-006 C -0.00173 0.0141 -0.00451 0.02728 -0.00659 0.04138 C -0.00798 0.06172 -0.01111 0.08322 -0.01111 0.10356 E">
                                      <p:cBhvr>
                                        <p:cTn id="280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1665 L 0.0125 0.17199 E">
                                      <p:cBhvr>
                                        <p:cTn id="282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7.85021E-006 L 0.01667 0.12205 E">
                                      <p:cBhvr>
                                        <p:cTn id="284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1983E-006 L -0.00416 0.09431 E">
                                      <p:cBhvr>
                                        <p:cTn id="286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4979E-006 L -3.33333E-006 0.14424 E">
                                      <p:cBhvr>
                                        <p:cTn id="288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4979E-006 L -3.33333E-006 0.08876 E">
                                      <p:cBhvr>
                                        <p:cTn id="290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9f7"/>
            </a:gs>
            <a:gs pos="100000">
              <a:srgbClr val="cd7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228600" y="228600"/>
            <a:ext cx="5715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lectrical Conductivity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828800" y="1905120"/>
            <a:ext cx="6400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Electrolytes-  able to conduct electric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828800" y="1066680"/>
            <a:ext cx="6781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Nonelectrolytes- unable to conduct electric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5800" y="2666880"/>
            <a:ext cx="800100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Ionic compounds dissolved in water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o make solutions are excellent electrolytes.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1295280" y="1600200"/>
            <a:ext cx="4572000" cy="4724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"/>
          <p:cNvSpPr/>
          <p:nvPr/>
        </p:nvSpPr>
        <p:spPr>
          <a:xfrm>
            <a:off x="121932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5867280" y="838080"/>
            <a:ext cx="1667160" cy="1235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248520" y="1219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6"/>
          <p:cNvSpPr/>
          <p:nvPr/>
        </p:nvSpPr>
        <p:spPr>
          <a:xfrm>
            <a:off x="1523880" y="49528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 rot="16200000">
            <a:off x="2588400" y="3278880"/>
            <a:ext cx="1984320" cy="4570560"/>
          </a:xfrm>
          <a:prstGeom prst="flowChartOnlineStorag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35"/>
          <p:cNvSpPr/>
          <p:nvPr/>
        </p:nvSpPr>
        <p:spPr>
          <a:xfrm>
            <a:off x="1371600" y="4952880"/>
            <a:ext cx="685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36"/>
          <p:cNvSpPr/>
          <p:nvPr/>
        </p:nvSpPr>
        <p:spPr>
          <a:xfrm>
            <a:off x="2286000" y="5562720"/>
            <a:ext cx="685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37"/>
          <p:cNvSpPr/>
          <p:nvPr/>
        </p:nvSpPr>
        <p:spPr>
          <a:xfrm>
            <a:off x="3581280" y="4952880"/>
            <a:ext cx="685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38"/>
          <p:cNvSpPr/>
          <p:nvPr/>
        </p:nvSpPr>
        <p:spPr>
          <a:xfrm>
            <a:off x="4800600" y="5181480"/>
            <a:ext cx="685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1447920" y="51055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0"/>
          <p:cNvSpPr/>
          <p:nvPr/>
        </p:nvSpPr>
        <p:spPr>
          <a:xfrm>
            <a:off x="4876920" y="5334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1"/>
          <p:cNvSpPr/>
          <p:nvPr/>
        </p:nvSpPr>
        <p:spPr>
          <a:xfrm>
            <a:off x="2362320" y="5715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3657600" y="51055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43"/>
          <p:cNvSpPr/>
          <p:nvPr/>
        </p:nvSpPr>
        <p:spPr>
          <a:xfrm rot="1319400">
            <a:off x="0" y="4571640"/>
            <a:ext cx="1371600" cy="9144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44"/>
          <p:cNvSpPr/>
          <p:nvPr/>
        </p:nvSpPr>
        <p:spPr>
          <a:xfrm rot="12682800">
            <a:off x="5790960" y="5562360"/>
            <a:ext cx="1371600" cy="9144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5"/>
          <p:cNvSpPr/>
          <p:nvPr/>
        </p:nvSpPr>
        <p:spPr>
          <a:xfrm>
            <a:off x="228600" y="4191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6"/>
          <p:cNvSpPr/>
          <p:nvPr/>
        </p:nvSpPr>
        <p:spPr>
          <a:xfrm>
            <a:off x="533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7"/>
          <p:cNvSpPr/>
          <p:nvPr/>
        </p:nvSpPr>
        <p:spPr>
          <a:xfrm>
            <a:off x="762120" y="4572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1595 C -0.01128 -0.000459999999999999 -0.02413 -0.01502 -0.0368 -0.02404 C -0.06232 -0.0631 -0.12153 -0.07142 -0.15139 -0.08368 C -0.18055 -0.08206 -0.20989 -0.08321 -0.23889 -0.07767 C -0.27257 -0.07142 -0.24479 -0.06634 -0.26632 -0.05085 C -0.2717 -0.04669 -0.2783 -0.04669 -0.28403 -0.04438 C -0.29045 -0.03583 -0.296 -0.02635 -0.30243 -0.01756 C -0.31302 -0.00115 -0.31528 0.01896 -0.32673 0.0356 C -0.33802 0.07467 -0.34514 0.12298 -0.36267 0.1491 C -0.37135 0.20389 -0.3717 0.25844 -0.37448 0.31623 C -0.37378 0.34929 -0.37361 0.38257 -0.37187 0.41586 C -0.37031 0.44614 -0.35955 0.48082 -0.3658 0.50925 E">
                                      <p:cBhvr>
                                        <p:cTn id="327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24827E-006 C -0.01146 -0.01549 -0.02378 -0.02913 -0.03611 -0.03745 C -0.06146 -0.07443 -0.11892 -0.08206 -0.14844 -0.09339 C -0.17691 -0.09223 -0.20573 -0.09293 -0.23403 -0.0883 C -0.26719 -0.08206 -0.23993 -0.07744 -0.26076 -0.06265 C -0.26632 -0.05848 -0.27274 -0.05848 -0.27847 -0.0571 C -0.28455 -0.04854 -0.29028 -0.03953 -0.29653 -0.03167 C -0.3066 -0.01618 -0.30903 0.00277 -0.31997 0.01872 C -0.33125 0.05548 -0.33802 0.10032 -0.35538 0.12529 C -0.36372 0.17661 -0.36406 0.22769 -0.36667 0.28178 C -0.36632 0.31322 -0.36615 0.3442 -0.36441 0.37563 C -0.36302 0.40407 -0.35208 0.43689 -0.35851 0.46394 E">
                                      <p:cBhvr>
                                        <p:cTn id="329" dur="2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3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4" dur="1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7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9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62 C 0.01527 -0.01318 0.01857 -0.00901 0.0408 -0.0067 C 0.04305 -0.00601 0.04566 -0.00578 0.04774 -0.00416 C 0.0526 -0.00116 0.06128 0.00647 0.06128 0.0067 C 0.07465 0.02866 0.05694 0.00254 0.07257 0.01688 C 0.07482 0.01896 0.07534 0.02242 0.07725 0.02473 C 0.07916 0.02682 0.08211 0.02797 0.08402 0.03005 C 0.10208 0.04854 0.09062 0.04323 0.10468 0.04808 C 0.10902 0.05178 0.11371 0.05548 0.11805 0.05895 C 0.12482 0.06426 0.14409 0.06681 0.15225 0.06935 C 0.15798 0.0712 0.17396 0.07536 0.17968 0.07975 C 0.18194 0.0816 0.18385 0.08368 0.18646 0.08507 C 0.21111 0.09894 0.17586 0.07605 0.2 0.09015 C 0.21423 0.09871 0.2276 0.10888 0.24114 0.11905 C 0.25052 0.12621 0.24791 0.13315 0.2592 0.13754 C 0.27152 0.15835 0.25555 0.13315 0.27066 0.15072 C 0.27882 0.16019 0.27639 0.16181 0.28871 0.1662 C 0.2993 0.17846 0.31771 0.18747 0.33211 0.19256 C 0.34739 0.20458 0.32864 0.19117 0.35034 0.20042 C 0.35277 0.20157 0.35434 0.20481 0.35711 0.2055 C 0.36961 0.20989 0.3875 0.21174 0.40034 0.21359 C 0.42864 0.22191 0.45833 0.21498 0.4868 0.21105 C 0.4967 0.20712 0.50451 0.20157 0.51423 0.19787 C 0.52361 0.18146 0.52708 0.17545 0.54375 0.16898 C 0.55243 0.15442 0.55781 0.16089 0.571 0.1558 C 0.58385 0.1595 0.58889 0.16251 0.60052 0.17152 C 0.60295 0.17337 0.60729 0.17684 0.60729 0.17707 C 0.61336 0.19718 0.60503 0.17152 0.61423 0.19256 C 0.61527 0.19487 0.61666 0.20042 0.61666 0.20065 E">
                                      <p:cBhvr>
                                        <p:cTn id="396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62 C 0.01527 -0.01318 0.01857 -0.00901 0.0408 -0.0067 C 0.04305 -0.00601 0.04566 -0.00578 0.04774 -0.00416 C 0.0526 -0.00116 0.06128 0.00647 0.06128 0.0067 C 0.07465 0.02866 0.05694 0.00254 0.07257 0.01688 C 0.07482 0.01896 0.07534 0.02242 0.07725 0.02473 C 0.07916 0.02682 0.08211 0.02797 0.08402 0.03005 C 0.10208 0.04854 0.09062 0.04323 0.10468 0.04808 C 0.10902 0.05178 0.11371 0.05548 0.11805 0.05895 C 0.12482 0.06426 0.14409 0.06681 0.15225 0.06935 C 0.15798 0.0712 0.17396 0.07536 0.17968 0.07975 C 0.18194 0.0816 0.18385 0.08368 0.18646 0.08507 C 0.21111 0.09894 0.17586 0.07605 0.2 0.09015 C 0.21423 0.09871 0.2276 0.10888 0.24114 0.11905 C 0.25052 0.12621 0.24791 0.13315 0.2592 0.13754 C 0.27152 0.15835 0.25555 0.13315 0.27066 0.15072 C 0.27882 0.16019 0.27639 0.16181 0.28871 0.1662 C 0.2993 0.17846 0.31771 0.18747 0.33211 0.19256 C 0.34739 0.20458 0.32864 0.19117 0.35034 0.20042 C 0.35277 0.20157 0.35434 0.20481 0.35711 0.2055 C 0.36961 0.20989 0.3875 0.21174 0.40034 0.21359 C 0.42864 0.22191 0.45833 0.21498 0.4868 0.21105 C 0.4967 0.20712 0.50451 0.20157 0.51423 0.19787 C 0.52361 0.18146 0.52708 0.17545 0.54375 0.16898 C 0.55243 0.15442 0.55781 0.16089 0.571 0.1558 C 0.58385 0.1595 0.58889 0.16251 0.60052 0.17152 C 0.60295 0.17337 0.60729 0.17684 0.60729 0.17707 C 0.61336 0.19718 0.60503 0.17152 0.61423 0.19256 C 0.61527 0.19487 0.61666 0.20042 0.61666 0.20065 E">
                                      <p:cBhvr>
                                        <p:cTn id="403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62 C 0.01527 -0.01318 0.01857 -0.00901 0.0408 -0.0067 C 0.04305 -0.00601 0.04566 -0.00578 0.04774 -0.00416 C 0.0526 -0.00116 0.06128 0.00647 0.06128 0.0067 C 0.07465 0.02866 0.05694 0.00254 0.07257 0.01688 C 0.07482 0.01896 0.07534 0.02242 0.07725 0.02473 C 0.07916 0.02682 0.08211 0.02797 0.08402 0.03005 C 0.10208 0.04854 0.09062 0.04323 0.10468 0.04808 C 0.10902 0.05178 0.11371 0.05548 0.11805 0.05895 C 0.12482 0.06426 0.14409 0.06681 0.15225 0.06935 C 0.15798 0.0712 0.17396 0.07536 0.17968 0.07975 C 0.18194 0.0816 0.18385 0.08368 0.18646 0.08507 C 0.21111 0.09894 0.17586 0.07605 0.2 0.09015 C 0.21423 0.09871 0.2276 0.10888 0.24114 0.11905 C 0.25052 0.12621 0.24791 0.13315 0.2592 0.13754 C 0.27152 0.15835 0.25555 0.13315 0.27066 0.15072 C 0.27882 0.16019 0.27639 0.16181 0.28871 0.1662 C 0.2993 0.17846 0.31771 0.18747 0.33211 0.19256 C 0.34739 0.20458 0.32864 0.19117 0.35034 0.20042 C 0.35277 0.20157 0.35434 0.20481 0.35711 0.2055 C 0.36961 0.20989 0.3875 0.21174 0.40034 0.21359 C 0.42864 0.22191 0.45833 0.21498 0.4868 0.21105 C 0.4967 0.20712 0.50451 0.20157 0.51423 0.19787 C 0.52361 0.18146 0.52708 0.17545 0.54375 0.16898 C 0.55243 0.15442 0.55781 0.16089 0.571 0.1558 C 0.58385 0.1595 0.58889 0.16251 0.60052 0.17152 C 0.60295 0.17337 0.60729 0.17684 0.60729 0.17707 C 0.61336 0.19718 0.60503 0.17152 0.61423 0.19256 C 0.61527 0.19487 0.61666 0.20042 0.61666 0.20065 E">
                                      <p:cBhvr>
                                        <p:cTn id="409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228600" y="228600"/>
            <a:ext cx="2336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lubility</a:t>
            </a:r>
            <a:endParaRPr b="0" lang="en-US" sz="1800" spc="1" strike="noStrike">
              <a:ln w="324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33520" y="1143000"/>
            <a:ext cx="86104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The amount of substance that wil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dissolve in a certain amount of water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usually 100 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52280" y="1066680"/>
            <a:ext cx="67564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olubility depends on several things: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28600" y="1828800"/>
            <a:ext cx="82040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1. Types of Substances- Likes dissolve likes.</a:t>
            </a:r>
            <a:endParaRPr b="0" lang="en-US" sz="1800" spc="1" strike="noStrike">
              <a:ln w="3240">
                <a:solidFill>
                  <a:srgbClr val="80008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359000" y="2540160"/>
            <a:ext cx="392436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Polarity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Intermolecular forces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Bonding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Ions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219320" y="4724280"/>
            <a:ext cx="604512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oluble- able to be dissolved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Insoluble- unable to be dissolved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52280" y="152280"/>
            <a:ext cx="73026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ompounds with these ions are soluble: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14400" y="762120"/>
            <a:ext cx="78487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B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52280" y="2666880"/>
            <a:ext cx="73026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ompounds with these ions are insoluble: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14400" y="3581280"/>
            <a:ext cx="6705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52280" y="228600"/>
            <a:ext cx="3988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2.  Tempera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52280" y="3105000"/>
            <a:ext cx="297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3.  Press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52280" y="1143000"/>
            <a:ext cx="915696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Liquids and solids are more soluble in hot water.  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Gases are more soluble in cold water.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90440" y="4038480"/>
            <a:ext cx="876312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Henry's Law- The solubility of a gas in a liquid 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depends on the pressure exerted on the gas.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1866960" y="152280"/>
            <a:ext cx="5410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ffff"/>
                  </a:solidFill>
                  <a:prstDash val="sysDot"/>
                  <a:miter/>
                </a:ln>
                <a:solidFill>
                  <a:srgbClr val="ffffff"/>
                </a:solidFill>
                <a:latin typeface="Arial Black"/>
              </a:rPr>
              <a:t>Colligative Properties</a:t>
            </a:r>
            <a:endParaRPr b="0" lang="en-US" sz="1800" spc="1" strike="noStrike">
              <a:ln w="3240">
                <a:solidFill>
                  <a:srgbClr val="00ffff"/>
                </a:solidFill>
                <a:prstDash val="sysDot"/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0" y="1219320"/>
            <a:ext cx="87631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. Vapor pressure lowering- reduce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ressure of a gas when it is above a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liquid.  To do this, add solute to water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203040" y="3429000"/>
            <a:ext cx="87379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x. Non-volatile substance such as salt or sugar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203040" y="304920"/>
            <a:ext cx="873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.  Boiling point elevation- raising the boiling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oint of a substance by adding a solu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84240" y="2057400"/>
            <a:ext cx="71755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x. Adding salt to water while cooking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cb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3430800" y="2260440"/>
            <a:ext cx="18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WordArt 4"/>
          <p:cNvSpPr txBox="1"/>
          <p:nvPr/>
        </p:nvSpPr>
        <p:spPr>
          <a:xfrm>
            <a:off x="304920" y="380880"/>
            <a:ext cx="8458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FREEZING POINT DEPRES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0" name="WordArt 5"/>
          <p:cNvSpPr txBox="1"/>
          <p:nvPr/>
        </p:nvSpPr>
        <p:spPr>
          <a:xfrm>
            <a:off x="609480" y="1523880"/>
            <a:ext cx="76201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Freezing point depression is a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olligative property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431" name="WordArt 6"/>
          <p:cNvSpPr txBox="1"/>
          <p:nvPr/>
        </p:nvSpPr>
        <p:spPr>
          <a:xfrm>
            <a:off x="0" y="3048120"/>
            <a:ext cx="9144000" cy="20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When a nonvolatile solute is added to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water, it takes the water longer to get to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the pressure where it will freeze.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432" name="WordArt 7"/>
          <p:cNvSpPr txBox="1"/>
          <p:nvPr/>
        </p:nvSpPr>
        <p:spPr>
          <a:xfrm>
            <a:off x="0" y="5486400"/>
            <a:ext cx="9144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Arial Black"/>
              </a:rPr>
              <a:t>The temp has a chance to drop, so the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Arial Black"/>
              </a:rPr>
              <a:t>freezing point of the water is made lower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sodium"/>
          <p:cNvPicPr/>
          <p:nvPr/>
        </p:nvPicPr>
        <p:blipFill>
          <a:blip r:embed="rId1"/>
          <a:stretch/>
        </p:blipFill>
        <p:spPr>
          <a:xfrm>
            <a:off x="0" y="43434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Table_salt"/>
          <p:cNvPicPr/>
          <p:nvPr/>
        </p:nvPicPr>
        <p:blipFill>
          <a:blip r:embed="rId2"/>
          <a:stretch/>
        </p:blipFill>
        <p:spPr>
          <a:xfrm>
            <a:off x="6535800" y="4684680"/>
            <a:ext cx="2608200" cy="2173320"/>
          </a:xfrm>
          <a:prstGeom prst="rect">
            <a:avLst/>
          </a:prstGeom>
          <a:ln w="0">
            <a:noFill/>
          </a:ln>
        </p:spPr>
      </p:pic>
      <p:sp>
        <p:nvSpPr>
          <p:cNvPr id="289" name="WordArt 7"/>
          <p:cNvSpPr txBox="1"/>
          <p:nvPr/>
        </p:nvSpPr>
        <p:spPr>
          <a:xfrm>
            <a:off x="1143000" y="457200"/>
            <a:ext cx="5848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 Black"/>
              </a:rPr>
              <a:t>Classification of Mat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 Black"/>
              <a:ea typeface="Arial Black"/>
            </a:endParaRPr>
          </a:p>
        </p:txBody>
      </p:sp>
      <p:sp>
        <p:nvSpPr>
          <p:cNvPr id="290" name="WordArt 8"/>
          <p:cNvSpPr txBox="1"/>
          <p:nvPr/>
        </p:nvSpPr>
        <p:spPr>
          <a:xfrm>
            <a:off x="457200" y="1371600"/>
            <a:ext cx="8229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There are several major groups of matter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291" name="WordArt 9"/>
          <p:cNvSpPr txBox="1"/>
          <p:nvPr/>
        </p:nvSpPr>
        <p:spPr>
          <a:xfrm>
            <a:off x="380880" y="2286000"/>
            <a:ext cx="8267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Arial Black"/>
              </a:rPr>
              <a:t>Pure substance- made of one typ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Arial Black"/>
              </a:rPr>
              <a:t>of matter on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Arial Black"/>
              <a:ea typeface="Arial Black"/>
            </a:endParaRPr>
          </a:p>
        </p:txBody>
      </p:sp>
      <p:sp>
        <p:nvSpPr>
          <p:cNvPr id="292" name="WordArt 11"/>
          <p:cNvSpPr txBox="1"/>
          <p:nvPr/>
        </p:nvSpPr>
        <p:spPr>
          <a:xfrm>
            <a:off x="380880" y="3505320"/>
            <a:ext cx="83916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lement- smallest type of pure substance with 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dentifying properties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3" name="WordArt 12"/>
          <p:cNvSpPr txBox="1"/>
          <p:nvPr/>
        </p:nvSpPr>
        <p:spPr>
          <a:xfrm>
            <a:off x="2438280" y="5029200"/>
            <a:ext cx="4343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pound- two or 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ore elements joined 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ogether to form one 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ype of matter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cb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WordArt 4"/>
          <p:cNvSpPr txBox="1"/>
          <p:nvPr/>
        </p:nvSpPr>
        <p:spPr>
          <a:xfrm>
            <a:off x="0" y="0"/>
            <a:ext cx="9144000" cy="33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If the freezing point is mad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lower, the substance mus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get much colder before it ca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freeze.  This is why PennDo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uses salt on the roads in wint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(and liquid calcium chloride.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pic>
        <p:nvPicPr>
          <p:cNvPr id="434" name="Picture 5" descr="snowy road"/>
          <p:cNvPicPr/>
          <p:nvPr/>
        </p:nvPicPr>
        <p:blipFill>
          <a:blip r:embed="rId1"/>
          <a:srcRect l="0" t="24337" r="0" b="0"/>
          <a:stretch/>
        </p:blipFill>
        <p:spPr>
          <a:xfrm>
            <a:off x="2133720" y="3448080"/>
            <a:ext cx="52448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cb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WordArt 4"/>
          <p:cNvSpPr txBox="1"/>
          <p:nvPr/>
        </p:nvSpPr>
        <p:spPr>
          <a:xfrm>
            <a:off x="304920" y="304920"/>
            <a:ext cx="81342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ter is used to cool down your car engine. 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t is contained in the radiator of your car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6" name="WordArt 5"/>
          <p:cNvSpPr txBox="1"/>
          <p:nvPr/>
        </p:nvSpPr>
        <p:spPr>
          <a:xfrm>
            <a:off x="304920" y="4114800"/>
            <a:ext cx="84391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uring winter, the water could freeze and 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rack the radiator.  Adding antifreeze 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ethylene glycol) lowers the freezing point and 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vents the water from freezing.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7" name="Picture 6" descr="radiator"/>
          <p:cNvPicPr/>
          <p:nvPr/>
        </p:nvPicPr>
        <p:blipFill>
          <a:blip r:embed="rId1"/>
          <a:stretch/>
        </p:blipFill>
        <p:spPr>
          <a:xfrm>
            <a:off x="2819520" y="1905120"/>
            <a:ext cx="3352680" cy="22096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antifreeze"/>
          <p:cNvPicPr/>
          <p:nvPr/>
        </p:nvPicPr>
        <p:blipFill>
          <a:blip r:embed="rId2"/>
          <a:srcRect l="19200" t="0" r="19200" b="0"/>
          <a:stretch/>
        </p:blipFill>
        <p:spPr>
          <a:xfrm>
            <a:off x="457200" y="1981080"/>
            <a:ext cx="1676520" cy="20383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8" descr="prestone"/>
          <p:cNvPicPr/>
          <p:nvPr/>
        </p:nvPicPr>
        <p:blipFill>
          <a:blip r:embed="rId3"/>
          <a:stretch/>
        </p:blipFill>
        <p:spPr>
          <a:xfrm>
            <a:off x="7010280" y="1905120"/>
            <a:ext cx="14749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819520" y="2743200"/>
            <a:ext cx="33526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WordArt 5"/>
          <p:cNvSpPr txBox="1"/>
          <p:nvPr/>
        </p:nvSpPr>
        <p:spPr>
          <a:xfrm>
            <a:off x="2514600" y="0"/>
            <a:ext cx="412128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oaps and Detergen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2" name="WordArt 6"/>
          <p:cNvSpPr txBox="1"/>
          <p:nvPr/>
        </p:nvSpPr>
        <p:spPr>
          <a:xfrm>
            <a:off x="304920" y="1676520"/>
            <a:ext cx="85341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detergent industry has spent billions of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llars researching the solubility of material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t cause stain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3" name="WordArt 7"/>
          <p:cNvSpPr txBox="1"/>
          <p:nvPr/>
        </p:nvSpPr>
        <p:spPr>
          <a:xfrm>
            <a:off x="304920" y="3809880"/>
            <a:ext cx="69436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olubility of stains looks at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everal factors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4" name="WordArt 8"/>
          <p:cNvSpPr txBox="1"/>
          <p:nvPr/>
        </p:nvSpPr>
        <p:spPr>
          <a:xfrm>
            <a:off x="380880" y="5410080"/>
            <a:ext cx="3314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cid vs. base</a:t>
            </a:r>
            <a:endParaRPr b="0" lang="en-US" sz="1800" spc="1" strike="noStrike">
              <a:ln w="0">
                <a:noFill/>
              </a:ln>
              <a:solidFill>
                <a:srgbClr val="00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5" name="WordArt 9"/>
          <p:cNvSpPr txBox="1"/>
          <p:nvPr/>
        </p:nvSpPr>
        <p:spPr>
          <a:xfrm>
            <a:off x="4343400" y="5410080"/>
            <a:ext cx="4486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olar vs. nonpolar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6" name="WordArt 10"/>
          <p:cNvSpPr txBox="1"/>
          <p:nvPr/>
        </p:nvSpPr>
        <p:spPr>
          <a:xfrm>
            <a:off x="228600" y="6210360"/>
            <a:ext cx="5295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rganic vs. inorgani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7" name="WordArt 11"/>
          <p:cNvSpPr txBox="1"/>
          <p:nvPr/>
        </p:nvSpPr>
        <p:spPr>
          <a:xfrm>
            <a:off x="5943600" y="6095880"/>
            <a:ext cx="2962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ot vs. cold</a:t>
            </a:r>
            <a:endParaRPr b="0" lang="en-US" sz="1800" spc="1" strike="noStrike">
              <a:ln w="0">
                <a:noFill/>
              </a:ln>
              <a:solidFill>
                <a:srgbClr val="00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8" name="Picture 12" descr="MCBD05797_0000[1]"/>
          <p:cNvPicPr/>
          <p:nvPr/>
        </p:nvPicPr>
        <p:blipFill>
          <a:blip r:embed="rId1"/>
          <a:stretch/>
        </p:blipFill>
        <p:spPr>
          <a:xfrm>
            <a:off x="6819840" y="3200400"/>
            <a:ext cx="232416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WordArt 4"/>
          <p:cNvSpPr txBox="1"/>
          <p:nvPr/>
        </p:nvSpPr>
        <p:spPr>
          <a:xfrm>
            <a:off x="343080" y="228600"/>
            <a:ext cx="8572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etergents work with two processe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ind to the nonpolar, organic st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ind with polar water to be washed aw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450" name="Picture 7" descr="MCHH01509_0000[1]"/>
          <p:cNvPicPr/>
          <p:nvPr/>
        </p:nvPicPr>
        <p:blipFill>
          <a:blip r:embed="rId1"/>
          <a:stretch/>
        </p:blipFill>
        <p:spPr>
          <a:xfrm>
            <a:off x="228600" y="5124600"/>
            <a:ext cx="2209680" cy="1493640"/>
          </a:xfrm>
          <a:prstGeom prst="rect">
            <a:avLst/>
          </a:prstGeom>
          <a:ln w="0">
            <a:noFill/>
          </a:ln>
        </p:spPr>
      </p:pic>
      <p:sp>
        <p:nvSpPr>
          <p:cNvPr id="451" name="WordArt 12"/>
          <p:cNvSpPr txBox="1"/>
          <p:nvPr/>
        </p:nvSpPr>
        <p:spPr>
          <a:xfrm>
            <a:off x="1352520" y="3124080"/>
            <a:ext cx="77914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Soap-making process is one of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the oldest chemica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reactions known to m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WordArt 5"/>
          <p:cNvSpPr txBox="1"/>
          <p:nvPr/>
        </p:nvSpPr>
        <p:spPr>
          <a:xfrm>
            <a:off x="304920" y="304920"/>
            <a:ext cx="8372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irst, a fat such as lard or beef tallow is heated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3" name="Picture 6" descr="MCHH01465_0000[1]"/>
          <p:cNvPicPr/>
          <p:nvPr/>
        </p:nvPicPr>
        <p:blipFill>
          <a:blip r:embed="rId1"/>
          <a:stretch/>
        </p:blipFill>
        <p:spPr>
          <a:xfrm>
            <a:off x="6896160" y="4419720"/>
            <a:ext cx="2247840" cy="2438280"/>
          </a:xfrm>
          <a:prstGeom prst="rect">
            <a:avLst/>
          </a:prstGeom>
          <a:ln w="0">
            <a:noFill/>
          </a:ln>
        </p:spPr>
      </p:pic>
      <p:sp>
        <p:nvSpPr>
          <p:cNvPr id="454" name="WordArt 7"/>
          <p:cNvSpPr txBox="1"/>
          <p:nvPr/>
        </p:nvSpPr>
        <p:spPr>
          <a:xfrm>
            <a:off x="380880" y="1752480"/>
            <a:ext cx="82677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odium hydroxide, or lye, is added, and the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ixture is heated (very dangerous, heated lye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ives off bad fumes)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5" name="WordArt 8"/>
          <p:cNvSpPr txBox="1"/>
          <p:nvPr/>
        </p:nvSpPr>
        <p:spPr>
          <a:xfrm>
            <a:off x="533520" y="4267080"/>
            <a:ext cx="67053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mixture is poured into a salt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olution and separates into two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ayers- soap and glycerol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4"/>
          <p:cNvSpPr txBox="1"/>
          <p:nvPr/>
        </p:nvSpPr>
        <p:spPr>
          <a:xfrm>
            <a:off x="228600" y="380880"/>
            <a:ext cx="8610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cc0099"/>
                </a:solidFill>
                <a:latin typeface="Arial Black"/>
              </a:rPr>
              <a:t>Making soap is an organic reaction called saponification.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cc0099"/>
              </a:solidFill>
              <a:latin typeface="Arial Black"/>
              <a:ea typeface="Arial Black"/>
            </a:endParaRPr>
          </a:p>
        </p:txBody>
      </p:sp>
      <p:pic>
        <p:nvPicPr>
          <p:cNvPr id="457" name="Picture 5" descr="trioleinsaponification"/>
          <p:cNvPicPr/>
          <p:nvPr/>
        </p:nvPicPr>
        <p:blipFill>
          <a:blip r:embed="rId1"/>
          <a:stretch/>
        </p:blipFill>
        <p:spPr>
          <a:xfrm>
            <a:off x="3048120" y="1219320"/>
            <a:ext cx="6095880" cy="5168880"/>
          </a:xfrm>
          <a:prstGeom prst="rect">
            <a:avLst/>
          </a:prstGeom>
          <a:ln w="0">
            <a:noFill/>
          </a:ln>
        </p:spPr>
      </p:pic>
      <p:sp>
        <p:nvSpPr>
          <p:cNvPr id="458" name="WordArt 6"/>
          <p:cNvSpPr txBox="1"/>
          <p:nvPr/>
        </p:nvSpPr>
        <p:spPr>
          <a:xfrm>
            <a:off x="0" y="1523880"/>
            <a:ext cx="35053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ong carbon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hains (12-20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arbons)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9" name="WordArt 7"/>
          <p:cNvSpPr txBox="1"/>
          <p:nvPr/>
        </p:nvSpPr>
        <p:spPr>
          <a:xfrm>
            <a:off x="7086600" y="3352680"/>
            <a:ext cx="885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ye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0" name="WordArt 8"/>
          <p:cNvSpPr txBox="1"/>
          <p:nvPr/>
        </p:nvSpPr>
        <p:spPr>
          <a:xfrm>
            <a:off x="2590920" y="4343400"/>
            <a:ext cx="207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Glycerol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1" name="WordArt 9"/>
          <p:cNvSpPr txBox="1"/>
          <p:nvPr/>
        </p:nvSpPr>
        <p:spPr>
          <a:xfrm>
            <a:off x="457200" y="5562720"/>
            <a:ext cx="2381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lt of a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atty acid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2" name="WordArt 10"/>
          <p:cNvSpPr txBox="1"/>
          <p:nvPr/>
        </p:nvSpPr>
        <p:spPr>
          <a:xfrm>
            <a:off x="304920" y="4572000"/>
            <a:ext cx="338112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onpolar end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inds with dirt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3" name="WordArt 11"/>
          <p:cNvSpPr txBox="1"/>
          <p:nvPr/>
        </p:nvSpPr>
        <p:spPr>
          <a:xfrm>
            <a:off x="5238720" y="3429000"/>
            <a:ext cx="39052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a end is polar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nd binds with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ater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4" name="WordArt 12"/>
          <p:cNvSpPr txBox="1"/>
          <p:nvPr/>
        </p:nvSpPr>
        <p:spPr>
          <a:xfrm>
            <a:off x="228600" y="228600"/>
            <a:ext cx="861048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en water washes away, soap goes,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oo, and the dirt is pulled with it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20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WordArt 4"/>
          <p:cNvSpPr txBox="1"/>
          <p:nvPr/>
        </p:nvSpPr>
        <p:spPr>
          <a:xfrm>
            <a:off x="0" y="228600"/>
            <a:ext cx="312408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tergent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6" name="WordArt 5"/>
          <p:cNvSpPr txBox="1"/>
          <p:nvPr/>
        </p:nvSpPr>
        <p:spPr>
          <a:xfrm>
            <a:off x="3276720" y="990720"/>
            <a:ext cx="541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ot the same as so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67" name="WordArt 6"/>
          <p:cNvSpPr txBox="1"/>
          <p:nvPr/>
        </p:nvSpPr>
        <p:spPr>
          <a:xfrm>
            <a:off x="0" y="1905120"/>
            <a:ext cx="91440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Contain surfactants- interfere with hydroge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bond formation and prevent water from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beading up.  This allows water to bind t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more grease molecules and remove them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468" name="WordArt 7"/>
          <p:cNvSpPr txBox="1"/>
          <p:nvPr/>
        </p:nvSpPr>
        <p:spPr>
          <a:xfrm>
            <a:off x="304920" y="5181480"/>
            <a:ext cx="85341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mulsifying agents- suspend the greas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 the water until it is washed aw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2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2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WordArt 4"/>
          <p:cNvSpPr txBox="1"/>
          <p:nvPr/>
        </p:nvSpPr>
        <p:spPr>
          <a:xfrm>
            <a:off x="457200" y="228600"/>
            <a:ext cx="813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Types of Products on the Mark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470" name="WordArt 5"/>
          <p:cNvSpPr txBox="1"/>
          <p:nvPr/>
        </p:nvSpPr>
        <p:spPr>
          <a:xfrm>
            <a:off x="228600" y="1447920"/>
            <a:ext cx="5715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Arial Black"/>
              </a:rPr>
              <a:t>Soaps- remove dirt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Arial Black"/>
              </a:rPr>
              <a:t>used in bath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Arial Black"/>
              <a:ea typeface="Arial Black"/>
            </a:endParaRPr>
          </a:p>
        </p:txBody>
      </p:sp>
      <p:sp>
        <p:nvSpPr>
          <p:cNvPr id="471" name="WordArt 6"/>
          <p:cNvSpPr txBox="1"/>
          <p:nvPr/>
        </p:nvSpPr>
        <p:spPr>
          <a:xfrm>
            <a:off x="3809880" y="297180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Arial Black"/>
              </a:rPr>
              <a:t>Detergents- remov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Arial Black"/>
              </a:rPr>
              <a:t>grease, used in dish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Arial Black"/>
              </a:rPr>
              <a:t>and clothes wash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Arial Black"/>
              <a:ea typeface="Arial Black"/>
            </a:endParaRPr>
          </a:p>
        </p:txBody>
      </p:sp>
      <p:sp>
        <p:nvSpPr>
          <p:cNvPr id="472" name="WordArt 7"/>
          <p:cNvSpPr txBox="1"/>
          <p:nvPr/>
        </p:nvSpPr>
        <p:spPr>
          <a:xfrm>
            <a:off x="0" y="5334120"/>
            <a:ext cx="647712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Boosters- boost power of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 Black"/>
              </a:rPr>
              <a:t>detergents, used in laund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 Black"/>
              <a:ea typeface="Arial Black"/>
            </a:endParaRPr>
          </a:p>
        </p:txBody>
      </p:sp>
      <p:pic>
        <p:nvPicPr>
          <p:cNvPr id="473" name="Picture 8" descr="soap"/>
          <p:cNvPicPr/>
          <p:nvPr/>
        </p:nvPicPr>
        <p:blipFill>
          <a:blip r:embed="rId2"/>
          <a:stretch/>
        </p:blipFill>
        <p:spPr>
          <a:xfrm>
            <a:off x="6172200" y="1101600"/>
            <a:ext cx="2057400" cy="174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9" descr="tide"/>
          <p:cNvPicPr/>
          <p:nvPr/>
        </p:nvPicPr>
        <p:blipFill>
          <a:blip r:embed="rId3"/>
          <a:stretch/>
        </p:blipFill>
        <p:spPr>
          <a:xfrm>
            <a:off x="609480" y="27432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0" descr="oxyclean"/>
          <p:cNvPicPr/>
          <p:nvPr/>
        </p:nvPicPr>
        <p:blipFill>
          <a:blip r:embed="rId4"/>
          <a:stretch/>
        </p:blipFill>
        <p:spPr>
          <a:xfrm>
            <a:off x="6781680" y="4800600"/>
            <a:ext cx="1905120" cy="1836720"/>
          </a:xfrm>
          <a:prstGeom prst="rect">
            <a:avLst/>
          </a:prstGeom>
          <a:ln w="0">
            <a:noFill/>
          </a:ln>
        </p:spPr>
      </p:pic>
      <p:sp>
        <p:nvSpPr>
          <p:cNvPr id="476" name="WordArt 11"/>
          <p:cNvSpPr txBox="1"/>
          <p:nvPr/>
        </p:nvSpPr>
        <p:spPr>
          <a:xfrm>
            <a:off x="0" y="1447920"/>
            <a:ext cx="8810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 Black"/>
              </a:rPr>
              <a:t>Stain removers- increase solubilit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 Black"/>
              </a:rPr>
              <a:t>of stain in water, used in laund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 Black"/>
              <a:ea typeface="Arial Black"/>
            </a:endParaRPr>
          </a:p>
        </p:txBody>
      </p:sp>
      <p:pic>
        <p:nvPicPr>
          <p:cNvPr id="477" name="Picture 12" descr="stain remover"/>
          <p:cNvPicPr/>
          <p:nvPr/>
        </p:nvPicPr>
        <p:blipFill>
          <a:blip r:embed="rId5"/>
          <a:srcRect l="39724" t="56355" r="33103" b="0"/>
          <a:stretch/>
        </p:blipFill>
        <p:spPr>
          <a:xfrm>
            <a:off x="4572000" y="2743200"/>
            <a:ext cx="1332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19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1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2" dur="1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6" dur="1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WordArt 4"/>
          <p:cNvSpPr txBox="1"/>
          <p:nvPr/>
        </p:nvSpPr>
        <p:spPr>
          <a:xfrm>
            <a:off x="1447920" y="228600"/>
            <a:ext cx="5648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How to Remove Stai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479" name="WordArt 6"/>
          <p:cNvSpPr txBox="1"/>
          <p:nvPr/>
        </p:nvSpPr>
        <p:spPr>
          <a:xfrm>
            <a:off x="304920" y="1371600"/>
            <a:ext cx="834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lood- soak in cold water, wash OR soak in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eroxide solution and a few drops of ammonia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0" name="WordArt 7"/>
          <p:cNvSpPr txBox="1"/>
          <p:nvPr/>
        </p:nvSpPr>
        <p:spPr>
          <a:xfrm>
            <a:off x="457200" y="2743200"/>
            <a:ext cx="8201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ocolate- scrape off excess, dab with liquid 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tergent, wash with powder detergent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1" name="WordArt 8"/>
          <p:cNvSpPr txBox="1"/>
          <p:nvPr/>
        </p:nvSpPr>
        <p:spPr>
          <a:xfrm>
            <a:off x="304920" y="3962520"/>
            <a:ext cx="8534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ffee- soak in 50% glycerine solution for 1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r, wash OR soak in 17% peroxide solution, wash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2" name="WordArt 10"/>
          <p:cNvSpPr txBox="1"/>
          <p:nvPr/>
        </p:nvSpPr>
        <p:spPr>
          <a:xfrm>
            <a:off x="304920" y="5334120"/>
            <a:ext cx="849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smetics- soak 5 minutes in 1% ammonia, rinse, </a:t>
            </a:r>
            <a:endParaRPr b="0" lang="en-US" sz="1800" spc="1" strike="noStrike">
              <a:ln w="0">
                <a:noFill/>
              </a:ln>
              <a:solidFill>
                <a:srgbClr val="00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sh in strong detergent and hottest water possible</a:t>
            </a:r>
            <a:endParaRPr b="0" lang="en-US" sz="1800" spc="1" strike="noStrike">
              <a:ln w="0">
                <a:noFill/>
              </a:ln>
              <a:solidFill>
                <a:srgbClr val="00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3" name="WordArt 11"/>
          <p:cNvSpPr txBox="1"/>
          <p:nvPr/>
        </p:nvSpPr>
        <p:spPr>
          <a:xfrm>
            <a:off x="609480" y="129528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rayon- dab with seltzer, soak 1 hr OR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oak in 50% glycerine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4" name="WordArt 12"/>
          <p:cNvSpPr txBox="1"/>
          <p:nvPr/>
        </p:nvSpPr>
        <p:spPr>
          <a:xfrm>
            <a:off x="304920" y="2590920"/>
            <a:ext cx="8505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ruit- soak in 50% glycerine OR 17% peroxide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5" name="WordArt 13"/>
          <p:cNvSpPr txBox="1"/>
          <p:nvPr/>
        </p:nvSpPr>
        <p:spPr>
          <a:xfrm>
            <a:off x="304920" y="3429000"/>
            <a:ext cx="85341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rass- dab with seltzer, wash in warm, soapy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ter OR soak in 50% glycerine, let soften,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sh in strong detergent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6" name="WordArt 14"/>
          <p:cNvSpPr txBox="1"/>
          <p:nvPr/>
        </p:nvSpPr>
        <p:spPr>
          <a:xfrm>
            <a:off x="380880" y="1295280"/>
            <a:ext cx="78771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rease- scrape off excess, dampen, dab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ith liquid detergent, wash in hottest water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ossible OR press between absorbent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aper, press with warm iron, wash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7" name="WordArt 15"/>
          <p:cNvSpPr txBox="1"/>
          <p:nvPr/>
        </p:nvSpPr>
        <p:spPr>
          <a:xfrm>
            <a:off x="1219320" y="5562720"/>
            <a:ext cx="5867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en- spray with hair spray, wash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8" name="WordArt 16"/>
          <p:cNvSpPr txBox="1"/>
          <p:nvPr/>
        </p:nvSpPr>
        <p:spPr>
          <a:xfrm>
            <a:off x="380880" y="4038480"/>
            <a:ext cx="85251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weat- soak in 33% ammonia solution, </a:t>
            </a:r>
            <a:endParaRPr b="0" lang="en-US" sz="1800" spc="1" strike="noStrike">
              <a:ln w="0">
                <a:noFill/>
              </a:ln>
              <a:solidFill>
                <a:srgbClr val="00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sh OR dab with 6% vinegar solution, wait 5 </a:t>
            </a:r>
            <a:endParaRPr b="0" lang="en-US" sz="1800" spc="1" strike="noStrike">
              <a:ln w="0">
                <a:noFill/>
              </a:ln>
              <a:solidFill>
                <a:srgbClr val="00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inutes, soak in detergent, wash</a:t>
            </a:r>
            <a:endParaRPr b="0" lang="en-US" sz="1800" spc="1" strike="noStrike">
              <a:ln w="0">
                <a:noFill/>
              </a:ln>
              <a:solidFill>
                <a:srgbClr val="00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4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4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7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0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brass"/>
          <p:cNvPicPr/>
          <p:nvPr/>
        </p:nvPicPr>
        <p:blipFill>
          <a:blip r:embed="rId1"/>
          <a:srcRect l="16694" t="25041" r="16694" b="25041"/>
          <a:stretch/>
        </p:blipFill>
        <p:spPr>
          <a:xfrm>
            <a:off x="6934320" y="4572000"/>
            <a:ext cx="2209680" cy="16542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kneehi"/>
          <p:cNvPicPr/>
          <p:nvPr/>
        </p:nvPicPr>
        <p:blipFill>
          <a:blip r:embed="rId2"/>
          <a:stretch/>
        </p:blipFill>
        <p:spPr>
          <a:xfrm>
            <a:off x="472428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pizza"/>
          <p:cNvPicPr/>
          <p:nvPr/>
        </p:nvPicPr>
        <p:blipFill>
          <a:blip r:embed="rId3"/>
          <a:srcRect l="0" t="16694" r="0" b="12521"/>
          <a:stretch/>
        </p:blipFill>
        <p:spPr>
          <a:xfrm>
            <a:off x="6858000" y="1828800"/>
            <a:ext cx="2286000" cy="19382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milk_reflection_big"/>
          <p:cNvPicPr/>
          <p:nvPr/>
        </p:nvPicPr>
        <p:blipFill>
          <a:blip r:embed="rId4"/>
          <a:stretch/>
        </p:blipFill>
        <p:spPr>
          <a:xfrm>
            <a:off x="4495680" y="4495680"/>
            <a:ext cx="2362320" cy="1771920"/>
          </a:xfrm>
          <a:prstGeom prst="rect">
            <a:avLst/>
          </a:prstGeom>
          <a:ln w="0">
            <a:noFill/>
          </a:ln>
        </p:spPr>
      </p:pic>
      <p:sp>
        <p:nvSpPr>
          <p:cNvPr id="298" name="WordArt 9"/>
          <p:cNvSpPr txBox="1"/>
          <p:nvPr/>
        </p:nvSpPr>
        <p:spPr>
          <a:xfrm>
            <a:off x="304920" y="304920"/>
            <a:ext cx="8267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Arial Black"/>
              </a:rPr>
              <a:t>Mixtures- made of two or mor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Arial Black"/>
              </a:rPr>
              <a:t>types of mat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Arial Black"/>
              <a:ea typeface="Arial Black"/>
            </a:endParaRPr>
          </a:p>
        </p:txBody>
      </p:sp>
      <p:sp>
        <p:nvSpPr>
          <p:cNvPr id="299" name="WordArt 10"/>
          <p:cNvSpPr txBox="1"/>
          <p:nvPr/>
        </p:nvSpPr>
        <p:spPr>
          <a:xfrm>
            <a:off x="380880" y="1752480"/>
            <a:ext cx="38862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eterogeneous- 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ve spots with a 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ifferent composition 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mixture)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WordArt 11"/>
          <p:cNvSpPr txBox="1"/>
          <p:nvPr/>
        </p:nvSpPr>
        <p:spPr>
          <a:xfrm>
            <a:off x="762120" y="4343400"/>
            <a:ext cx="3352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omogeneous-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s the same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position all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way through 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solution)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WordArt 4"/>
          <p:cNvSpPr txBox="1"/>
          <p:nvPr/>
        </p:nvSpPr>
        <p:spPr>
          <a:xfrm>
            <a:off x="533520" y="380880"/>
            <a:ext cx="7524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ids are present in the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tmosphere in small amounts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0" name="WordArt 5"/>
          <p:cNvSpPr txBox="1"/>
          <p:nvPr/>
        </p:nvSpPr>
        <p:spPr>
          <a:xfrm>
            <a:off x="0" y="2057400"/>
            <a:ext cx="552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x gases- nitric acid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1" name="WordArt 6"/>
          <p:cNvSpPr txBox="1"/>
          <p:nvPr/>
        </p:nvSpPr>
        <p:spPr>
          <a:xfrm>
            <a:off x="752400" y="2895480"/>
            <a:ext cx="8391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ar exhaust, industry- west coast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2" name="WordArt 7"/>
          <p:cNvSpPr txBox="1"/>
          <p:nvPr/>
        </p:nvSpPr>
        <p:spPr>
          <a:xfrm>
            <a:off x="0" y="4038480"/>
            <a:ext cx="6039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x gases- sulfuric acid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3" name="WordArt 8"/>
          <p:cNvSpPr txBox="1"/>
          <p:nvPr/>
        </p:nvSpPr>
        <p:spPr>
          <a:xfrm>
            <a:off x="1419120" y="4876920"/>
            <a:ext cx="7724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urning fossil fuels- east coast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4" name="Picture 9" descr="MCj02345550000[1]"/>
          <p:cNvPicPr/>
          <p:nvPr/>
        </p:nvPicPr>
        <p:blipFill>
          <a:blip r:embed="rId1"/>
          <a:stretch/>
        </p:blipFill>
        <p:spPr>
          <a:xfrm>
            <a:off x="7238880" y="3505320"/>
            <a:ext cx="1398600" cy="13986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0" descr="MCNA00614_0000[1]"/>
          <p:cNvPicPr/>
          <p:nvPr/>
        </p:nvPicPr>
        <p:blipFill>
          <a:blip r:embed="rId2"/>
          <a:stretch/>
        </p:blipFill>
        <p:spPr>
          <a:xfrm>
            <a:off x="6324480" y="1752480"/>
            <a:ext cx="2175120" cy="1141560"/>
          </a:xfrm>
          <a:prstGeom prst="rect">
            <a:avLst/>
          </a:prstGeom>
          <a:ln w="0">
            <a:noFill/>
          </a:ln>
        </p:spPr>
      </p:pic>
      <p:sp>
        <p:nvSpPr>
          <p:cNvPr id="496" name="WordArt 11"/>
          <p:cNvSpPr txBox="1"/>
          <p:nvPr/>
        </p:nvSpPr>
        <p:spPr>
          <a:xfrm>
            <a:off x="380880" y="5562720"/>
            <a:ext cx="8029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6600"/>
                    </a:gs>
                  </a:gsLst>
                  <a:lin ang="2700000"/>
                </a:gradFill>
                <a:latin typeface="Arial Black"/>
              </a:rPr>
              <a:t>Mix with water and fall to Earth 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27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6600"/>
                    </a:gs>
                  </a:gsLst>
                  <a:lin ang="2700000"/>
                </a:gradFill>
                <a:latin typeface="Arial Black"/>
              </a:rPr>
              <a:t>as acid rain, fog, or snow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WordArt 4"/>
          <p:cNvSpPr txBox="1"/>
          <p:nvPr/>
        </p:nvSpPr>
        <p:spPr>
          <a:xfrm>
            <a:off x="304920" y="304920"/>
            <a:ext cx="8610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cid rain affects the environmen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egatively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98" name="WordArt 5"/>
          <p:cNvSpPr txBox="1"/>
          <p:nvPr/>
        </p:nvSpPr>
        <p:spPr>
          <a:xfrm>
            <a:off x="6172200" y="2362320"/>
            <a:ext cx="2657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rganism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9" name="WordArt 6"/>
          <p:cNvSpPr txBox="1"/>
          <p:nvPr/>
        </p:nvSpPr>
        <p:spPr>
          <a:xfrm>
            <a:off x="380880" y="1905120"/>
            <a:ext cx="4876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ggs are deformed or die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0" name="WordArt 7"/>
          <p:cNvSpPr txBox="1"/>
          <p:nvPr/>
        </p:nvSpPr>
        <p:spPr>
          <a:xfrm>
            <a:off x="304920" y="2743200"/>
            <a:ext cx="5181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ish gills become clogged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1" name="WordArt 8"/>
          <p:cNvSpPr txBox="1"/>
          <p:nvPr/>
        </p:nvSpPr>
        <p:spPr>
          <a:xfrm>
            <a:off x="304920" y="3581280"/>
            <a:ext cx="7010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tchlings have small fins or no scales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2" name="WordArt 9"/>
          <p:cNvSpPr txBox="1"/>
          <p:nvPr/>
        </p:nvSpPr>
        <p:spPr>
          <a:xfrm>
            <a:off x="228600" y="5181480"/>
            <a:ext cx="1571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lants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3" name="WordArt 10"/>
          <p:cNvSpPr txBox="1"/>
          <p:nvPr/>
        </p:nvSpPr>
        <p:spPr>
          <a:xfrm>
            <a:off x="4495680" y="4419720"/>
            <a:ext cx="4191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eaves develop holes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4" name="WordArt 11"/>
          <p:cNvSpPr txBox="1"/>
          <p:nvPr/>
        </p:nvSpPr>
        <p:spPr>
          <a:xfrm>
            <a:off x="2133720" y="5181480"/>
            <a:ext cx="7010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eaves and stems may be discolored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5" name="WordArt 12"/>
          <p:cNvSpPr txBox="1"/>
          <p:nvPr/>
        </p:nvSpPr>
        <p:spPr>
          <a:xfrm>
            <a:off x="4800600" y="5867280"/>
            <a:ext cx="3857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ems become wilted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WordArt 4"/>
          <p:cNvSpPr txBox="1"/>
          <p:nvPr/>
        </p:nvSpPr>
        <p:spPr>
          <a:xfrm>
            <a:off x="304920" y="304920"/>
            <a:ext cx="8057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 Black"/>
              </a:rPr>
              <a:t>Index species- cannot survive i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 Black"/>
              </a:rPr>
              <a:t>acidic condition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 Black"/>
              <a:ea typeface="Arial Black"/>
            </a:endParaRPr>
          </a:p>
        </p:txBody>
      </p:sp>
      <p:sp>
        <p:nvSpPr>
          <p:cNvPr id="507" name="WordArt 5"/>
          <p:cNvSpPr txBox="1"/>
          <p:nvPr/>
        </p:nvSpPr>
        <p:spPr>
          <a:xfrm>
            <a:off x="1143000" y="1905120"/>
            <a:ext cx="729612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Good stream health indicator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8" name="WordArt 6"/>
          <p:cNvSpPr txBox="1"/>
          <p:nvPr/>
        </p:nvSpPr>
        <p:spPr>
          <a:xfrm>
            <a:off x="304920" y="2743200"/>
            <a:ext cx="6933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 Black"/>
              </a:rPr>
              <a:t>Brook trout- no acid, clean water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 Black"/>
              <a:ea typeface="Arial Black"/>
            </a:endParaRPr>
          </a:p>
        </p:txBody>
      </p:sp>
      <p:pic>
        <p:nvPicPr>
          <p:cNvPr id="509" name="Picture 7" descr="brook trout"/>
          <p:cNvPicPr/>
          <p:nvPr/>
        </p:nvPicPr>
        <p:blipFill>
          <a:blip r:embed="rId1"/>
          <a:stretch/>
        </p:blipFill>
        <p:spPr>
          <a:xfrm>
            <a:off x="4267080" y="3505320"/>
            <a:ext cx="4496040" cy="1558800"/>
          </a:xfrm>
          <a:prstGeom prst="rect">
            <a:avLst/>
          </a:prstGeom>
          <a:ln w="0">
            <a:noFill/>
          </a:ln>
        </p:spPr>
      </p:pic>
      <p:sp>
        <p:nvSpPr>
          <p:cNvPr id="510" name="WordArt 8"/>
          <p:cNvSpPr txBox="1"/>
          <p:nvPr/>
        </p:nvSpPr>
        <p:spPr>
          <a:xfrm>
            <a:off x="1143000" y="3962520"/>
            <a:ext cx="290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 Black"/>
              </a:rPr>
              <a:t>high DO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 Black"/>
              <a:ea typeface="Arial Black"/>
            </a:endParaRPr>
          </a:p>
        </p:txBody>
      </p:sp>
      <p:sp>
        <p:nvSpPr>
          <p:cNvPr id="511" name="WordArt 9"/>
          <p:cNvSpPr txBox="1"/>
          <p:nvPr/>
        </p:nvSpPr>
        <p:spPr>
          <a:xfrm>
            <a:off x="609480" y="4800600"/>
            <a:ext cx="4762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Arial Black"/>
              </a:rPr>
              <a:t>shaded, cool wa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9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5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WordArt 4"/>
          <p:cNvSpPr txBox="1"/>
          <p:nvPr/>
        </p:nvSpPr>
        <p:spPr>
          <a:xfrm>
            <a:off x="228600" y="228600"/>
            <a:ext cx="839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cid rain is NOT the main sourc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 acid pollution in PA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3" name="WordArt 5"/>
          <p:cNvSpPr txBox="1"/>
          <p:nvPr/>
        </p:nvSpPr>
        <p:spPr>
          <a:xfrm>
            <a:off x="228600" y="1981080"/>
            <a:ext cx="86104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 Black"/>
              </a:rPr>
              <a:t>Acid mine drainage- water passing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 Black"/>
              </a:rPr>
              <a:t>through abandoned coal mi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 Black"/>
              <a:ea typeface="Arial Black"/>
            </a:endParaRPr>
          </a:p>
        </p:txBody>
      </p:sp>
      <p:sp>
        <p:nvSpPr>
          <p:cNvPr id="514" name="WordArt 6"/>
          <p:cNvSpPr txBox="1"/>
          <p:nvPr/>
        </p:nvSpPr>
        <p:spPr>
          <a:xfrm>
            <a:off x="304920" y="3733920"/>
            <a:ext cx="84582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Sulfur deposits called slush ar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by-products of mining, mak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water acidic.  Acid wat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dissolves iron pyrite, making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water orang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WordArt 4"/>
          <p:cNvSpPr txBox="1"/>
          <p:nvPr/>
        </p:nvSpPr>
        <p:spPr>
          <a:xfrm>
            <a:off x="380880" y="304920"/>
            <a:ext cx="8077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Dead streams- streams s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acidic organisms cannot survi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  <p:sp>
        <p:nvSpPr>
          <p:cNvPr id="516" name="WordArt 5"/>
          <p:cNvSpPr txBox="1"/>
          <p:nvPr/>
        </p:nvSpPr>
        <p:spPr>
          <a:xfrm>
            <a:off x="380880" y="2133720"/>
            <a:ext cx="82677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ny streams in PA hav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mestone river beds- act as a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ffer to the acid to neutralize it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7" name="WordArt 6"/>
          <p:cNvSpPr txBox="1"/>
          <p:nvPr/>
        </p:nvSpPr>
        <p:spPr>
          <a:xfrm>
            <a:off x="762120" y="4572000"/>
            <a:ext cx="7372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aves the stream, bu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akes it deeper as acid eat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way at the stream b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Organization Chart 3"/>
          <p:cNvGrpSpPr/>
          <p:nvPr/>
        </p:nvGrpSpPr>
        <p:grpSpPr>
          <a:xfrm>
            <a:off x="228600" y="1002600"/>
            <a:ext cx="8915040" cy="3674520"/>
            <a:chOff x="228600" y="1002600"/>
            <a:chExt cx="8915040" cy="3674520"/>
          </a:xfrm>
        </p:grpSpPr>
        <p:cxnSp>
          <p:nvCxnSpPr>
            <p:cNvPr id="302" name="_s1028"/>
            <p:cNvCxnSpPr>
              <a:stCxn id="303" idx="0"/>
              <a:endCxn id="304" idx="3"/>
            </p:cNvCxnSpPr>
            <p:nvPr/>
          </p:nvCxnSpPr>
          <p:spPr>
            <a:xfrm flipV="1" rot="16200000">
              <a:off x="7413480" y="3260160"/>
              <a:ext cx="322200" cy="1229040"/>
            </a:xfrm>
            <a:prstGeom prst="bentConnector3">
              <a:avLst>
                <a:gd name="adj1" fmla="val 3545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305" name="_s1029"/>
            <p:cNvCxnSpPr>
              <a:stCxn id="306" idx="0"/>
              <a:endCxn id="304" idx="3"/>
            </p:cNvCxnSpPr>
            <p:nvPr/>
          </p:nvCxnSpPr>
          <p:spPr>
            <a:xfrm flipH="1" flipV="1" rot="5400000">
              <a:off x="6257880" y="3333240"/>
              <a:ext cx="322200" cy="1083240"/>
            </a:xfrm>
            <a:prstGeom prst="bentConnector3">
              <a:avLst>
                <a:gd name="adj1" fmla="val 3545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307" name="_s1030"/>
            <p:cNvCxnSpPr>
              <a:stCxn id="308" idx="0"/>
              <a:endCxn id="309" idx="3"/>
            </p:cNvCxnSpPr>
            <p:nvPr/>
          </p:nvCxnSpPr>
          <p:spPr>
            <a:xfrm flipV="1" rot="16200000">
              <a:off x="2790000" y="3260520"/>
              <a:ext cx="322200" cy="1228320"/>
            </a:xfrm>
            <a:prstGeom prst="bentConnector3">
              <a:avLst>
                <a:gd name="adj1" fmla="val 3545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310" name="_s1031"/>
            <p:cNvCxnSpPr>
              <a:stCxn id="311" idx="0"/>
              <a:endCxn id="309" idx="3"/>
            </p:cNvCxnSpPr>
            <p:nvPr/>
          </p:nvCxnSpPr>
          <p:spPr>
            <a:xfrm flipH="1" flipV="1" rot="5400000">
              <a:off x="1634760" y="3333240"/>
              <a:ext cx="322200" cy="1083240"/>
            </a:xfrm>
            <a:prstGeom prst="bentConnector3">
              <a:avLst>
                <a:gd name="adj1" fmla="val 3545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312" name="_s1032"/>
            <p:cNvCxnSpPr>
              <a:stCxn id="304" idx="0"/>
              <a:endCxn id="313" idx="3"/>
            </p:cNvCxnSpPr>
            <p:nvPr/>
          </p:nvCxnSpPr>
          <p:spPr>
            <a:xfrm flipV="1" rot="16200000">
              <a:off x="6836040" y="2819160"/>
              <a:ext cx="322200" cy="78480"/>
            </a:xfrm>
            <a:prstGeom prst="bentConnector3">
              <a:avLst>
                <a:gd name="adj1" fmla="val 3557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314" name="_s1033"/>
            <p:cNvCxnSpPr>
              <a:stCxn id="309" idx="0"/>
              <a:endCxn id="315" idx="3"/>
            </p:cNvCxnSpPr>
            <p:nvPr/>
          </p:nvCxnSpPr>
          <p:spPr>
            <a:xfrm flipV="1" rot="16200000">
              <a:off x="2213280" y="2819160"/>
              <a:ext cx="322200" cy="78480"/>
            </a:xfrm>
            <a:prstGeom prst="bentConnector3">
              <a:avLst>
                <a:gd name="adj1" fmla="val 3557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316" name="_s1034"/>
            <p:cNvCxnSpPr>
              <a:stCxn id="313" idx="0"/>
              <a:endCxn id="317" idx="3"/>
            </p:cNvCxnSpPr>
            <p:nvPr/>
          </p:nvCxnSpPr>
          <p:spPr>
            <a:xfrm flipV="1" rot="16200000">
              <a:off x="5682600" y="613440"/>
              <a:ext cx="322200" cy="2385360"/>
            </a:xfrm>
            <a:prstGeom prst="bentConnector3">
              <a:avLst>
                <a:gd name="adj1" fmla="val 3545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318" name="_s1035"/>
            <p:cNvCxnSpPr>
              <a:stCxn id="315" idx="0"/>
              <a:endCxn id="317" idx="3"/>
            </p:cNvCxnSpPr>
            <p:nvPr/>
          </p:nvCxnSpPr>
          <p:spPr>
            <a:xfrm flipH="1" flipV="1" rot="5400000">
              <a:off x="3371760" y="687240"/>
              <a:ext cx="322200" cy="2238480"/>
            </a:xfrm>
            <a:prstGeom prst="bentConnector3">
              <a:avLst>
                <a:gd name="adj1" fmla="val 35458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317" name="_s1036"/>
            <p:cNvSpPr/>
            <p:nvPr/>
          </p:nvSpPr>
          <p:spPr>
            <a:xfrm>
              <a:off x="2452680" y="1002600"/>
              <a:ext cx="4466520" cy="642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3852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ow many types of matter is it made of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1037"/>
            <p:cNvSpPr/>
            <p:nvPr/>
          </p:nvSpPr>
          <p:spPr>
            <a:xfrm>
              <a:off x="1383120" y="1967760"/>
              <a:ext cx="1983240" cy="730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3852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ure Substanc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_s1038"/>
            <p:cNvSpPr/>
            <p:nvPr/>
          </p:nvSpPr>
          <p:spPr>
            <a:xfrm>
              <a:off x="6005880" y="1967760"/>
              <a:ext cx="1983240" cy="730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3852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ixtur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1039"/>
            <p:cNvSpPr/>
            <p:nvPr/>
          </p:nvSpPr>
          <p:spPr>
            <a:xfrm>
              <a:off x="738000" y="3019680"/>
              <a:ext cx="3274920" cy="694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3852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Is it on the periodic table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_s1040"/>
            <p:cNvSpPr/>
            <p:nvPr/>
          </p:nvSpPr>
          <p:spPr>
            <a:xfrm>
              <a:off x="5360760" y="3019680"/>
              <a:ext cx="3274920" cy="694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3852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oes it have spots that look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ifferent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_s1041"/>
            <p:cNvSpPr/>
            <p:nvPr/>
          </p:nvSpPr>
          <p:spPr>
            <a:xfrm>
              <a:off x="228600" y="4035960"/>
              <a:ext cx="1980360" cy="641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880" rIns="3888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l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_s1042"/>
            <p:cNvSpPr/>
            <p:nvPr/>
          </p:nvSpPr>
          <p:spPr>
            <a:xfrm>
              <a:off x="2539440" y="4035960"/>
              <a:ext cx="1981080" cy="641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880" rIns="3888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ou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_s1043"/>
            <p:cNvSpPr/>
            <p:nvPr/>
          </p:nvSpPr>
          <p:spPr>
            <a:xfrm>
              <a:off x="4851360" y="4035960"/>
              <a:ext cx="1980360" cy="641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160" rIns="4716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x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_s1044"/>
            <p:cNvSpPr/>
            <p:nvPr/>
          </p:nvSpPr>
          <p:spPr>
            <a:xfrm>
              <a:off x="7162560" y="4035960"/>
              <a:ext cx="1981080" cy="641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AutoShape 22"/>
          <p:cNvSpPr/>
          <p:nvPr/>
        </p:nvSpPr>
        <p:spPr>
          <a:xfrm>
            <a:off x="7924680" y="5029200"/>
            <a:ext cx="609840" cy="1066680"/>
          </a:xfrm>
          <a:prstGeom prst="upArrow">
            <a:avLst>
              <a:gd name="adj1" fmla="val 50000"/>
              <a:gd name="adj2" fmla="val 437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4"/>
          <p:cNvSpPr txBox="1"/>
          <p:nvPr/>
        </p:nvSpPr>
        <p:spPr>
          <a:xfrm>
            <a:off x="228600" y="304920"/>
            <a:ext cx="8534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Arial Black"/>
              </a:rPr>
              <a:t>Solutions are made of two main part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Arial Black"/>
              <a:ea typeface="Arial Black"/>
            </a:endParaRPr>
          </a:p>
        </p:txBody>
      </p:sp>
      <p:sp>
        <p:nvSpPr>
          <p:cNvPr id="321" name="WordArt 5"/>
          <p:cNvSpPr txBox="1"/>
          <p:nvPr/>
        </p:nvSpPr>
        <p:spPr>
          <a:xfrm>
            <a:off x="533520" y="1676520"/>
            <a:ext cx="7391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olute- thing that gets dissolv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322" name="WordArt 6"/>
          <p:cNvSpPr txBox="1"/>
          <p:nvPr/>
        </p:nvSpPr>
        <p:spPr>
          <a:xfrm>
            <a:off x="609480" y="2590920"/>
            <a:ext cx="7696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Solvent- thing that does the dissolving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present in larger amou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e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4"/>
          <p:cNvSpPr txBox="1"/>
          <p:nvPr/>
        </p:nvSpPr>
        <p:spPr>
          <a:xfrm>
            <a:off x="2590920" y="5715000"/>
            <a:ext cx="44910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YPES OF SOLUTIONS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WordArt 5"/>
          <p:cNvSpPr txBox="1"/>
          <p:nvPr/>
        </p:nvSpPr>
        <p:spPr>
          <a:xfrm>
            <a:off x="304920" y="304920"/>
            <a:ext cx="21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9999"/>
                </a:solidFill>
                <a:latin typeface="Arial Black"/>
              </a:rPr>
              <a:t>Gaseous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009999"/>
              </a:solidFill>
              <a:latin typeface="Arial Black"/>
              <a:ea typeface="Arial Black"/>
            </a:endParaRPr>
          </a:p>
        </p:txBody>
      </p:sp>
      <p:sp>
        <p:nvSpPr>
          <p:cNvPr id="325" name="WordArt 6"/>
          <p:cNvSpPr txBox="1"/>
          <p:nvPr/>
        </p:nvSpPr>
        <p:spPr>
          <a:xfrm>
            <a:off x="2819520" y="304920"/>
            <a:ext cx="4933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ade of two or more gases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6" name="WordArt 7"/>
          <p:cNvSpPr txBox="1"/>
          <p:nvPr/>
        </p:nvSpPr>
        <p:spPr>
          <a:xfrm>
            <a:off x="8229600" y="304920"/>
            <a:ext cx="590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ir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7" name="WordArt 8"/>
          <p:cNvSpPr txBox="1"/>
          <p:nvPr/>
        </p:nvSpPr>
        <p:spPr>
          <a:xfrm>
            <a:off x="533520" y="2438280"/>
            <a:ext cx="1523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9999"/>
                </a:solidFill>
                <a:latin typeface="Arial Black"/>
              </a:rPr>
              <a:t>Liquid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009999"/>
              </a:solidFill>
              <a:latin typeface="Arial Black"/>
              <a:ea typeface="Arial Black"/>
            </a:endParaRPr>
          </a:p>
        </p:txBody>
      </p:sp>
      <p:sp>
        <p:nvSpPr>
          <p:cNvPr id="328" name="WordArt 9"/>
          <p:cNvSpPr txBox="1"/>
          <p:nvPr/>
        </p:nvSpPr>
        <p:spPr>
          <a:xfrm>
            <a:off x="2438280" y="1523880"/>
            <a:ext cx="3505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iquid dissolves gas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9" name="WordArt 10"/>
          <p:cNvSpPr txBox="1"/>
          <p:nvPr/>
        </p:nvSpPr>
        <p:spPr>
          <a:xfrm>
            <a:off x="2362320" y="2209680"/>
            <a:ext cx="3924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iquid dissolves liquid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0" name="WordArt 11"/>
          <p:cNvSpPr txBox="1"/>
          <p:nvPr/>
        </p:nvSpPr>
        <p:spPr>
          <a:xfrm>
            <a:off x="2362320" y="3276720"/>
            <a:ext cx="3752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iquid dissolves solid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1" name="WordArt 12"/>
          <p:cNvSpPr txBox="1"/>
          <p:nvPr/>
        </p:nvSpPr>
        <p:spPr>
          <a:xfrm>
            <a:off x="7162920" y="1371600"/>
            <a:ext cx="82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oda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2" name="WordArt 13"/>
          <p:cNvSpPr txBox="1"/>
          <p:nvPr/>
        </p:nvSpPr>
        <p:spPr>
          <a:xfrm>
            <a:off x="6553080" y="228600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ntifreeze, 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inegar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WordArt 14"/>
          <p:cNvSpPr txBox="1"/>
          <p:nvPr/>
        </p:nvSpPr>
        <p:spPr>
          <a:xfrm>
            <a:off x="6705720" y="3276720"/>
            <a:ext cx="1857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alt water,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Koolaid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4" name="WordArt 15"/>
          <p:cNvSpPr txBox="1"/>
          <p:nvPr/>
        </p:nvSpPr>
        <p:spPr>
          <a:xfrm>
            <a:off x="457200" y="41911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9999"/>
                </a:solidFill>
                <a:latin typeface="Arial Black"/>
              </a:rPr>
              <a:t>Solid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009999"/>
              </a:solidFill>
              <a:latin typeface="Arial Black"/>
              <a:ea typeface="Arial Black"/>
            </a:endParaRPr>
          </a:p>
        </p:txBody>
      </p:sp>
      <p:sp>
        <p:nvSpPr>
          <p:cNvPr id="335" name="WordArt 16"/>
          <p:cNvSpPr txBox="1"/>
          <p:nvPr/>
        </p:nvSpPr>
        <p:spPr>
          <a:xfrm>
            <a:off x="2286000" y="4343400"/>
            <a:ext cx="220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alled alloys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6" name="WordArt 17"/>
          <p:cNvSpPr txBox="1"/>
          <p:nvPr/>
        </p:nvSpPr>
        <p:spPr>
          <a:xfrm>
            <a:off x="2095560" y="5029200"/>
            <a:ext cx="7048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erling silver, gold alloy, brass, bronze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54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95280" y="228600"/>
            <a:ext cx="6985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5929" dir="3371122" blurRad="0" rotWithShape="0">
                    <a:srgbClr val="4d4d4d"/>
                  </a:outerShdw>
                </a:effectLst>
                <a:latin typeface="Arial Black"/>
              </a:rPr>
              <a:t>Solutions can be separated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5929" dir="3371122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5929" dir="3371122" blurRad="0" rotWithShape="0">
                    <a:srgbClr val="4d4d4d"/>
                  </a:outerShdw>
                </a:effectLst>
                <a:latin typeface="Arial Black"/>
              </a:rPr>
              <a:t>by particle size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5929" dir="3371122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981080"/>
            <a:ext cx="49784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olution- smallest particle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133720" y="2590920"/>
            <a:ext cx="38098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annot be seen, clear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3429000"/>
            <a:ext cx="52322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uspension- largest particles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666880" y="3962520"/>
            <a:ext cx="53341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an be seen, settle into layers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4648320"/>
            <a:ext cx="73152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olloid- small particles that are suspended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828800" y="5257800"/>
            <a:ext cx="7086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can be seen with the aid of a light 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(Tyndall effect)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bbfe"/>
            </a:gs>
            <a:gs pos="100000">
              <a:srgbClr val="008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568680" y="0"/>
            <a:ext cx="2006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lloi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2280" y="990720"/>
            <a:ext cx="6400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5929" dir="3371122" blurRad="0" rotWithShape="0">
                    <a:srgbClr val="4d4d4d"/>
                  </a:outerShdw>
                </a:effectLst>
                <a:latin typeface="Arial Black"/>
              </a:rPr>
              <a:t>Gel- colloid that solidifi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5929" dir="3371122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203040" y="2847960"/>
            <a:ext cx="873792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6ff3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5929" dir="3371122" blurRad="0" rotWithShape="0">
                    <a:srgbClr val="4d4d4d"/>
                  </a:outerShdw>
                </a:effectLst>
                <a:latin typeface="Arial Black"/>
              </a:rPr>
              <a:t>Emulsion- liquid suspended in a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6ff3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5929" dir="3371122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6ff3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5929" dir="3371122" blurRad="0" rotWithShape="0">
                    <a:srgbClr val="4d4d4d"/>
                  </a:outerShdw>
                </a:effectLst>
                <a:latin typeface="Arial Black"/>
              </a:rPr>
              <a:t>liqui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6ff3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5929" dir="3371122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52280" y="5029200"/>
            <a:ext cx="8001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1be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5929" dir="3371122" blurRad="0" rotWithShape="0">
                    <a:srgbClr val="4d4d4d"/>
                  </a:outerShdw>
                </a:effectLst>
                <a:latin typeface="Arial Black"/>
              </a:rPr>
              <a:t>Foam- gas suspended in a liqui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1be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5929" dir="3371122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553080" y="1828800"/>
            <a:ext cx="1165320" cy="7794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2666880" y="5638680"/>
            <a:ext cx="1003320" cy="10033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4572000" y="5715000"/>
            <a:ext cx="1281240" cy="8510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2819520" y="4114800"/>
            <a:ext cx="1209600" cy="9050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6934320" y="5715000"/>
            <a:ext cx="1039680" cy="10396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457200" y="17524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7543800" y="3886200"/>
            <a:ext cx="1066680" cy="9493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685800" y="3733920"/>
            <a:ext cx="1084320" cy="10843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9"/>
          <a:stretch/>
        </p:blipFill>
        <p:spPr>
          <a:xfrm>
            <a:off x="5562720" y="3809880"/>
            <a:ext cx="1074600" cy="10749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0"/>
          <a:stretch/>
        </p:blipFill>
        <p:spPr>
          <a:xfrm>
            <a:off x="4952880" y="1981080"/>
            <a:ext cx="1219320" cy="6447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1"/>
          <a:stretch/>
        </p:blipFill>
        <p:spPr>
          <a:xfrm>
            <a:off x="1981080" y="1752480"/>
            <a:ext cx="1040040" cy="1040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2"/>
          <a:stretch/>
        </p:blipFill>
        <p:spPr>
          <a:xfrm>
            <a:off x="7924680" y="1371600"/>
            <a:ext cx="895320" cy="13446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3"/>
          <a:stretch/>
        </p:blipFill>
        <p:spPr>
          <a:xfrm>
            <a:off x="3532320" y="1752480"/>
            <a:ext cx="103968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WordArt 4"/>
          <p:cNvSpPr txBox="1"/>
          <p:nvPr/>
        </p:nvSpPr>
        <p:spPr>
          <a:xfrm>
            <a:off x="1371600" y="533520"/>
            <a:ext cx="5791320" cy="111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king Solu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62" name="WordArt 5"/>
          <p:cNvSpPr txBox="1"/>
          <p:nvPr/>
        </p:nvSpPr>
        <p:spPr>
          <a:xfrm>
            <a:off x="685800" y="1981080"/>
            <a:ext cx="7601040" cy="15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solid and liquid are in the 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ntainer, but how do you get 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m to mix?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3" name="WordArt 6"/>
          <p:cNvSpPr txBox="1"/>
          <p:nvPr/>
        </p:nvSpPr>
        <p:spPr>
          <a:xfrm>
            <a:off x="1676520" y="3733920"/>
            <a:ext cx="5476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ncrease surface are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64" name="WordArt 7"/>
          <p:cNvSpPr txBox="1"/>
          <p:nvPr/>
        </p:nvSpPr>
        <p:spPr>
          <a:xfrm>
            <a:off x="7238880" y="5943600"/>
            <a:ext cx="1390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tir 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65" name="WordArt 8"/>
          <p:cNvSpPr txBox="1"/>
          <p:nvPr/>
        </p:nvSpPr>
        <p:spPr>
          <a:xfrm>
            <a:off x="304920" y="5867280"/>
            <a:ext cx="1695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eat 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66" name="WordArt 9"/>
          <p:cNvSpPr txBox="1"/>
          <p:nvPr/>
        </p:nvSpPr>
        <p:spPr>
          <a:xfrm>
            <a:off x="1066680" y="4800600"/>
            <a:ext cx="6801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oves solvent and solute around and 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creases contact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15:21:41Z</dcterms:created>
  <dc:creator>End User</dc:creator>
  <dc:description/>
  <dc:language>en-US</dc:language>
  <cp:lastModifiedBy>PA Department of Education</cp:lastModifiedBy>
  <dcterms:modified xsi:type="dcterms:W3CDTF">2009-04-23T19:24:29Z</dcterms:modified>
  <cp:revision>57</cp:revision>
  <dc:subject/>
  <dc:title>Slide 1</dc:title>
</cp:coreProperties>
</file>